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D1F-5A59-4DC2-A161-FCA13C7F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A55-CB08-4026-9757-5C699345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8F0-BC00-424D-A1A3-C1D4046D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2300-1833-4771-9B2D-8B2C6809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198-7BE2-4920-9567-7D646CED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3DB-A2D4-43DD-BC41-FEE34CBD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96C-A6EB-45FC-9099-AF61F80F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A18-DB3A-41CD-B4C4-D9804081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BA3-7657-42D5-97B5-B86B0473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442-6D4C-4157-8D4B-A041CA1B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7DA-4E56-4CD3-BA5D-191D4FA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206-A25C-4688-A285-A77E9332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91AD-6DE3-4D94-AE2A-3A09AE6635E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72 Šťastie je tam, kde býva P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ie je tam, kde býv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Boží vládne du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každý vie, že nie je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uje druha dru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ný d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v ktorom piesní tó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duše vlieva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obeťou chvál pred Boží tró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náša sa prosieb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ný d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v ktorom zazvo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vinný detský smie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láska vie nájsť na ra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stišujúci li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ám nás, Pane, posilu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a dopraj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dinný kruh náš posväcu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ži aj vládni v ná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45:10Z</dcterms:modified>
  <cp:revision>75</cp:revision>
  <dc:subject/>
  <dc:title>Je veľký náš Pán, on slávy je Kráľ Nech do všetkých strán  spev vrúcnych znie chvál.</dc:title>
</cp:coreProperties>
</file>